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1.wmf" ContentType="image/x-wmf"/>
  <Override PartName="/ppt/media/image2.wmf" ContentType="image/x-wmf"/>
  <Override PartName="/ppt/media/image3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7008840" cy="9294840"/>
          </a:xfrm>
          <a:custGeom>
            <a:avLst/>
            <a:gdLst>
              <a:gd name="textAreaLeft" fmla="*/ 360 w 7008840"/>
              <a:gd name="textAreaRight" fmla="*/ 7008480 w 700884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8645">
                <a:moveTo>
                  <a:pt x="4" y="0"/>
                </a:moveTo>
                <a:arcTo wR="4" hR="4" stAng="16200000" swAng="-5400000"/>
                <a:lnTo>
                  <a:pt x="0" y="28641"/>
                </a:lnTo>
                <a:arcTo wR="4" hR="4" stAng="10800000" swAng="-5400000"/>
                <a:lnTo>
                  <a:pt x="21596" y="2864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0"/>
            <a:ext cx="7008840" cy="9294840"/>
          </a:xfrm>
          <a:custGeom>
            <a:avLst/>
            <a:gdLst>
              <a:gd name="textAreaLeft" fmla="*/ 360 w 7008840"/>
              <a:gd name="textAreaRight" fmla="*/ 7008480 w 700884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8645">
                <a:moveTo>
                  <a:pt x="4" y="0"/>
                </a:moveTo>
                <a:arcTo wR="4" hR="4" stAng="16200000" swAng="-5400000"/>
                <a:lnTo>
                  <a:pt x="0" y="28641"/>
                </a:lnTo>
                <a:arcTo wR="4" hR="4" stAng="10800000" swAng="-5400000"/>
                <a:lnTo>
                  <a:pt x="21596" y="2864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7"/>
          </p:nvPr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Img"/>
          </p:nvPr>
        </p:nvSpPr>
        <p:spPr>
          <a:xfrm>
            <a:off x="1180800" y="696600"/>
            <a:ext cx="464508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body"/>
          </p:nvPr>
        </p:nvSpPr>
        <p:spPr>
          <a:xfrm>
            <a:off x="9349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 type="sldNum" idx="9"/>
          </p:nvPr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0B7227-1C16-42AA-B3C8-DA88708ADC1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277060-4874-4EE4-8D9C-0BEB8F817C4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556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18345E-4539-43DF-B833-6285B719394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7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5560" cy="41814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Refer to the aggregation diagra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F7C865-DED3-477A-918E-E9DB5DC300E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7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A18E32-B9A0-4C92-A886-8F18D14C081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182EA1-1FC7-4FE3-99BA-19C9B98A0FD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B5DF1E-7A8B-47AA-BA3F-F1E633F4A2E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1E2FE8-CE76-45C0-B0E4-AADCC6B14F2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AA7681-6C86-4B02-A796-2360FBA473A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503EC0-BBF2-478C-87FD-929A2AA05C2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1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81D7D2-F701-42DB-842A-3AC6D0B5788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7B6C0F-6A5A-4287-97CC-171E3441B3B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2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9FD80B-2F9A-4A16-88B1-69B8222971E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DC03BF-A916-4C9A-85B4-29BDFB7ADDD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4267E5-2CCF-4657-9C0F-02D10FCF63D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29526E-DAEB-421B-A674-A006F5E391A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932C74-4277-4BAB-962D-B4CB845A929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5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8EE63E-FB4E-4FE8-90FA-34707992616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64CE66-94C4-4DFE-9452-CD70773FB0E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81EE28-149C-4193-86BA-823D406E51F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9B9717-58E5-4F03-8F2A-6EA222B4F60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1304BF-166C-4978-B250-52331D4ED62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7A2B24-67DD-4132-B123-BB67007D424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538319-485A-441C-A6D3-CCF250B97C1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898E8-77C9-44FC-9E3F-2DDA7B79D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722F6-C55A-46D8-947F-9B8FD4651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AEE97-5DA0-45C1-ABFA-624327B12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137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469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5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137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469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50E3D-E07D-4D92-9405-A7C5F47CB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85722-DD3B-4310-B632-79B0A7DE8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D0F8A-27F5-405D-81F4-9EF84D0DD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A988C-6D9E-4575-8585-927A967B8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52784-3BD5-4940-AEC9-67723BA64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B5DF5-AB36-4460-953F-D675D1F96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440" y="379440"/>
            <a:ext cx="7790040" cy="31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A0242-CCF0-4A8C-A705-0B272B038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F9E51-5983-4BDE-BD5C-B7045AE07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7E0DA-2887-4640-8A8A-C6E30FE7B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9FBC6-3DC6-4454-8650-3DE77D23F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5E78B-38D2-4FD1-B864-6DC4E39FA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E2887-C1CA-4009-8497-664E16783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11ECB-B36F-49A3-A0D2-076A6DDAD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137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469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3805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137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469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13233-5870-46C2-AF78-13551179D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E9630-3DBA-4F92-AECB-914756259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3F27C-D9C2-4AC8-848F-ED1009F78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44E8F-D12A-420F-8D47-0006BBCA2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440" y="379440"/>
            <a:ext cx="7790040" cy="31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F5ECB-D57B-4C99-B4BA-C52C6FFBB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0F9E9-D1CB-45A8-9DF5-4AD26F63A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218CC-E413-4EAC-8DA1-24FDB64D3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3F100-6EB0-4AE4-804B-36CE1EDD3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1219320"/>
            <a:ext cx="8410680" cy="46080"/>
          </a:xfrm>
          <a:prstGeom prst="rect">
            <a:avLst/>
          </a:prstGeom>
          <a:solidFill>
            <a:srgbClr val="3333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324120"/>
            <a:ext cx="190188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date/time&gt;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03/25/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200040" y="6324120"/>
            <a:ext cx="28926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238520" y="640044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6EDD60-F144-49B8-B17E-A2EBA0873A86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"/>
          <p:cNvGrpSpPr/>
          <p:nvPr/>
        </p:nvGrpSpPr>
        <p:grpSpPr>
          <a:xfrm>
            <a:off x="0" y="2438280"/>
            <a:ext cx="9007200" cy="1051200"/>
            <a:chOff x="0" y="2438280"/>
            <a:chExt cx="9007200" cy="1051200"/>
          </a:xfrm>
        </p:grpSpPr>
        <p:grpSp>
          <p:nvGrpSpPr>
            <p:cNvPr id="43" name=""/>
            <p:cNvGrpSpPr/>
            <p:nvPr/>
          </p:nvGrpSpPr>
          <p:grpSpPr>
            <a:xfrm>
              <a:off x="290160" y="2545920"/>
              <a:ext cx="708840" cy="472320"/>
              <a:chOff x="290160" y="2545920"/>
              <a:chExt cx="708840" cy="472320"/>
            </a:xfrm>
          </p:grpSpPr>
          <p:sp>
            <p:nvSpPr>
              <p:cNvPr id="44" name=""/>
              <p:cNvSpPr/>
              <p:nvPr/>
            </p:nvSpPr>
            <p:spPr>
              <a:xfrm>
                <a:off x="290160" y="2545920"/>
                <a:ext cx="436680" cy="4723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671400" y="2545920"/>
                <a:ext cx="327600" cy="4723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" name=""/>
            <p:cNvGrpSpPr/>
            <p:nvPr/>
          </p:nvGrpSpPr>
          <p:grpSpPr>
            <a:xfrm>
              <a:off x="414000" y="2967480"/>
              <a:ext cx="734400" cy="472320"/>
              <a:chOff x="414000" y="2967480"/>
              <a:chExt cx="734400" cy="472320"/>
            </a:xfrm>
          </p:grpSpPr>
          <p:sp>
            <p:nvSpPr>
              <p:cNvPr id="47" name=""/>
              <p:cNvSpPr/>
              <p:nvPr/>
            </p:nvSpPr>
            <p:spPr>
              <a:xfrm>
                <a:off x="414000" y="2967480"/>
                <a:ext cx="421200" cy="47232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81200" y="2967480"/>
                <a:ext cx="367200" cy="47232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" name=""/>
            <p:cNvSpPr/>
            <p:nvPr/>
          </p:nvSpPr>
          <p:spPr>
            <a:xfrm>
              <a:off x="0" y="2894760"/>
              <a:ext cx="560160" cy="421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34680" y="2438280"/>
              <a:ext cx="31320" cy="105120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V="1">
              <a:off x="315720" y="3258360"/>
              <a:ext cx="8691480" cy="5508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360" y="1828800"/>
            <a:ext cx="7769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dt" idx="4"/>
          </p:nvPr>
        </p:nvSpPr>
        <p:spPr>
          <a:xfrm>
            <a:off x="99036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date/time&gt;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03/25/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ftr" idx="5"/>
          </p:nvPr>
        </p:nvSpPr>
        <p:spPr>
          <a:xfrm>
            <a:off x="342864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sldNum" idx="6"/>
          </p:nvPr>
        </p:nvSpPr>
        <p:spPr>
          <a:xfrm>
            <a:off x="68576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07DB18AB-FC08-4760-A40C-C44724FA66E2}" type="slidenum"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807732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Chapter 4: Data Cube Computation and Data Generaliz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38188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  <a:ea typeface="SimSun"/>
              </a:rPr>
              <a:t>Efficient Computation of Data Cub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imensional OLAP Que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" descr=""/>
          <p:cNvPicPr/>
          <p:nvPr/>
        </p:nvPicPr>
        <p:blipFill>
          <a:blip r:embed="rId1"/>
          <a:stretch/>
        </p:blipFill>
        <p:spPr>
          <a:xfrm>
            <a:off x="6119640" y="360360"/>
            <a:ext cx="3024360" cy="3600360"/>
          </a:xfrm>
          <a:prstGeom prst="rect">
            <a:avLst/>
          </a:prstGeom>
          <a:ln w="0">
            <a:noFill/>
          </a:ln>
        </p:spPr>
      </p:pic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52280" y="379080"/>
            <a:ext cx="6096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BUC: Partitioning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0" y="1260000"/>
            <a:ext cx="6084720" cy="52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Usually, entire data set                                 can’t fit in main memor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Sort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distinc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 values, partition into blocks that fi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Continue process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Optimization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External Sorting, Hashing, Counting S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Ordering dimensions to encourage prun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ardinality, Skew, Corre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llapsing duplic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an’t do holistic aggregates anymor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: An Integrating Method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-360" y="1197000"/>
            <a:ext cx="8893080" cy="30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Integrate the top-down and bottom-up metho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Explore shared dimens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dimensio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is the shared dimension of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CD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n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/AB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means cub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has shared dimension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llows for shared computa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cub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is computed simultaneously a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ggregate in a top-down manner but with the bottom-up sub-layer underneath which will allow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priori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pru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Shared dimensions grow in bottom-up fash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0" name=""/>
          <p:cNvGraphicFramePr/>
          <p:nvPr/>
        </p:nvGraphicFramePr>
        <p:xfrm>
          <a:off x="2916360" y="4365720"/>
          <a:ext cx="4584600" cy="223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16360" y="4365720"/>
                    <a:ext cx="4584600" cy="22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Iceberg Pruning in Shared Dimension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/>
          </p:nvPr>
        </p:nvSpPr>
        <p:spPr>
          <a:xfrm>
            <a:off x="323640" y="1341360"/>
            <a:ext cx="85690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nti-monotonic property of shared dimen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the measure i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nti-monotoni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and if the aggregate value on a shared dimension does not satisfy th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ceberg cond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n all the cells extended from this shared dimension cannot satisfy the condition ei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tuition: if we can compute the shared dimensions before the actual cuboid, we can use them to d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prior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pru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Problem: how to prune while still aggregate simultaneously on multiple dimension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 Attributes and Star Nod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/>
          </p:nvPr>
        </p:nvSpPr>
        <p:spPr>
          <a:xfrm>
            <a:off x="456840" y="1523880"/>
            <a:ext cx="5483160" cy="507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Intuition: If a single-dimensional  aggregate on an attribute valu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does not satisfy the iceberg condition, it is useless to distinguish them during the iceberg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3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Solution: Replace such attributes by a *.  Such attributes a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attributes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and the corresponding nodes in the cell tree a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6" name=""/>
          <p:cNvGraphicFramePr/>
          <p:nvPr/>
        </p:nvGraphicFramePr>
        <p:xfrm>
          <a:off x="6018120" y="2590920"/>
          <a:ext cx="2741760" cy="2208240"/>
        </p:xfrm>
        <a:graphic>
          <a:graphicData uri="http://schemas.openxmlformats.org/drawingml/2006/table">
            <a:tbl>
              <a:tblPr/>
              <a:tblGrid>
                <a:gridCol w="446400"/>
                <a:gridCol w="446400"/>
                <a:gridCol w="446040"/>
                <a:gridCol w="446400"/>
                <a:gridCol w="956520"/>
              </a:tblGrid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2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ample: Star Reduc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/>
          </p:nvPr>
        </p:nvSpPr>
        <p:spPr>
          <a:xfrm>
            <a:off x="323640" y="1484280"/>
            <a:ext cx="5343480" cy="50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Suppose minsup =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Perform one-dimensional aggregation.  Replace attribute values whose count &lt; 2 with *.  And collapse all *’s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Resulting table has all such attributes replaced with the star-attrib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With regards to the iceberg computation, this new table is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loseless compres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of the original 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9" name=""/>
          <p:cNvGraphicFramePr/>
          <p:nvPr/>
        </p:nvGraphicFramePr>
        <p:xfrm>
          <a:off x="5940360" y="4508640"/>
          <a:ext cx="2885760" cy="1931400"/>
        </p:xfrm>
        <a:graphic>
          <a:graphicData uri="http://schemas.openxmlformats.org/drawingml/2006/table">
            <a:tbl>
              <a:tblPr/>
              <a:tblGrid>
                <a:gridCol w="561600"/>
                <a:gridCol w="480960"/>
                <a:gridCol w="398160"/>
                <a:gridCol w="563040"/>
                <a:gridCol w="882000"/>
              </a:tblGrid>
              <a:tr h="39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0" name=""/>
          <p:cNvGraphicFramePr/>
          <p:nvPr/>
        </p:nvGraphicFramePr>
        <p:xfrm>
          <a:off x="5940360" y="1773360"/>
          <a:ext cx="2743200" cy="2190600"/>
        </p:xfrm>
        <a:graphic>
          <a:graphicData uri="http://schemas.openxmlformats.org/drawingml/2006/table">
            <a:tbl>
              <a:tblPr/>
              <a:tblGrid>
                <a:gridCol w="533520"/>
                <a:gridCol w="457200"/>
                <a:gridCol w="457200"/>
                <a:gridCol w="457200"/>
                <a:gridCol w="83808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1" name=""/>
          <p:cNvSpPr/>
          <p:nvPr/>
        </p:nvSpPr>
        <p:spPr>
          <a:xfrm>
            <a:off x="7308720" y="4005360"/>
            <a:ext cx="0" cy="44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 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/>
          </p:nvPr>
        </p:nvSpPr>
        <p:spPr>
          <a:xfrm>
            <a:off x="395280" y="1412640"/>
            <a:ext cx="4464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Given the new compressed table, it is possible to construct the corresponding cell tree—calle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Keep a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ta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at the side for easy lookup of star attrib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The star tree is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loseless compres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of the original cell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4" name="" descr=""/>
          <p:cNvPicPr/>
          <p:nvPr/>
        </p:nvPicPr>
        <p:blipFill>
          <a:blip r:embed="rId1"/>
          <a:stretch/>
        </p:blipFill>
        <p:spPr>
          <a:xfrm>
            <a:off x="5029200" y="1295280"/>
            <a:ext cx="3962520" cy="2895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 Algorithm—DFS on Lattice 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516" name=""/>
          <p:cNvGraphicFramePr/>
          <p:nvPr/>
        </p:nvGraphicFramePr>
        <p:xfrm>
          <a:off x="457200" y="1676520"/>
          <a:ext cx="8458200" cy="475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76520"/>
                    <a:ext cx="8458200" cy="475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"/>
          <p:cNvSpPr txBox="1"/>
          <p:nvPr/>
        </p:nvSpPr>
        <p:spPr>
          <a:xfrm>
            <a:off x="291240" y="229680"/>
            <a:ext cx="4262040" cy="75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519" name="" descr=""/>
          <p:cNvPicPr/>
          <p:nvPr/>
        </p:nvPicPr>
        <p:blipFill>
          <a:blip r:embed="rId1"/>
          <a:stretch/>
        </p:blipFill>
        <p:spPr>
          <a:xfrm>
            <a:off x="228600" y="1523880"/>
            <a:ext cx="8686800" cy="4811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20" name=""/>
          <p:cNvGraphicFramePr/>
          <p:nvPr/>
        </p:nvGraphicFramePr>
        <p:xfrm>
          <a:off x="4870440" y="258840"/>
          <a:ext cx="3517920" cy="1146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2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70440" y="258840"/>
                    <a:ext cx="3517920" cy="114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2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8097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 Algorithm—DFS on Star-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525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2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7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2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9" name=""/>
          <p:cNvSpPr/>
          <p:nvPr/>
        </p:nvSpPr>
        <p:spPr>
          <a:xfrm>
            <a:off x="380880" y="4876920"/>
            <a:ext cx="8229600" cy="17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Star-Tree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380520" y="1523880"/>
            <a:ext cx="830268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tart depth-first search at the root of the base star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t each new node in the DFS, create corresponding star tree that are descendents of the current tree according to the integrated traversal orderi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13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.g., in the base tree, when DFS reach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ACD/A tree is cre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13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DFS reach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ABD/AD tree is cre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e counts in the base tree are carried over to the new tre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20360" y="539640"/>
            <a:ext cx="77929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fficient Computation of Data Cub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4400" y="1260000"/>
            <a:ext cx="8534520" cy="51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Preliminary cube computation trick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Computing full/iceberg cubes: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Top-Down: 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  <a:ea typeface="SimSun"/>
              </a:rPr>
              <a:t>Multi-Wa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array aggreg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Bottom-Up: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  <a:ea typeface="SimSun"/>
              </a:rPr>
              <a:t>Bottom-up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computation: BUC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ntegrating Top-Down and Bottom-Up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imensional OLAP: A Minimal Cubing Approach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ggregation (2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/>
          </p:nvPr>
        </p:nvSpPr>
        <p:spPr>
          <a:xfrm>
            <a:off x="394920" y="1341360"/>
            <a:ext cx="822636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DFS reaches a leaf node (e.g.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, start backtra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n every backtracking branch, the count in the corresponding trees are output, the tree is destroyed, and the node in the base tree is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traversing from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ack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b*c*/a1b*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ree is output and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traversing from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ack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b*D/a1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ree is output and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at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jump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nd repeat similar pro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" descr=""/>
          <p:cNvPicPr/>
          <p:nvPr/>
        </p:nvPicPr>
        <p:blipFill>
          <a:blip r:embed="rId1"/>
          <a:stretch/>
        </p:blipFill>
        <p:spPr>
          <a:xfrm>
            <a:off x="2195640" y="2421000"/>
            <a:ext cx="4724280" cy="412596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The Curse of Dimensionality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None of the previous cubing method can handle high dimensionality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A database of 600k tuples.  Each dimension has cardinality of 100 and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zipf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f 2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440" y="471600"/>
            <a:ext cx="77929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otivation of High-D OLAP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184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hallenge to current cubing metho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e “curse of dimensionality’’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ceberg cube and compressed cubes: only delay the inevitable explo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ull materialization: still significant overhead in accessing results on dis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High-D OLAP is needed in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cience and engineering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Bio-data analysis: thousands of ge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tatistical surveys: hundreds of vari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162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Fast High-D OLAP with Minimal Cubing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113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Tahoma"/>
                <a:ea typeface="SimSun"/>
              </a:rPr>
              <a:t>Observ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: OLAP occurs only on a small subset of dimensions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Tahoma"/>
                <a:ea typeface="SimSun"/>
              </a:rPr>
              <a:t>Semi-Online Computational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the set of dimensions into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ute data cubes for each shell fragment while retaining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inverted indic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r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value-list ind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Given the pre-computed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ragment cub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 dynamically compute cube cells of the high-dimensional data cube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Properties of Proposed Method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Partitions the data vertical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Reduces high-dimensional cube into a set of lower dimensional cub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nline re-construction of original high-dimensional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  <a:ea typeface="SimSun"/>
              </a:rPr>
              <a:t>Lossless redu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ffers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radeoff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etween the amount of pre-processing and the speed of online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ampl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Let the cube aggregation function b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Divide the 5 dimensions into 2 shell fragment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, B, 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 and (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, 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45" name=""/>
          <p:cNvGrpSpPr/>
          <p:nvPr/>
        </p:nvGrpSpPr>
        <p:grpSpPr>
          <a:xfrm>
            <a:off x="1981080" y="2295360"/>
            <a:ext cx="4647960" cy="2733480"/>
            <a:chOff x="1981080" y="2295360"/>
            <a:chExt cx="4647960" cy="2733480"/>
          </a:xfrm>
        </p:grpSpPr>
        <p:sp>
          <p:nvSpPr>
            <p:cNvPr id="546" name=""/>
            <p:cNvSpPr/>
            <p:nvPr/>
          </p:nvSpPr>
          <p:spPr>
            <a:xfrm>
              <a:off x="585324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507888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30452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52980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275544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198108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85324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07888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430452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352980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275544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198108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585324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507888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430452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352980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275544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198108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85324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507888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430452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352980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275544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198108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85324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507888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430452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352980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275544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98108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585324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07888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430452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52980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275544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198108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ti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1981080" y="2295360"/>
              <a:ext cx="46468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1981080" y="27507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1981080" y="32061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981080" y="3661560"/>
              <a:ext cx="4646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981080" y="41169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81080" y="4572000"/>
              <a:ext cx="4646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1981080" y="5027760"/>
              <a:ext cx="464688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1981080" y="2295360"/>
              <a:ext cx="1440" cy="2732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275544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352980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30452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507888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5853240" y="2295360"/>
              <a:ext cx="108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6627960" y="2295360"/>
              <a:ext cx="1080" cy="2732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1-D Inverted Indic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Build traditional invert index or RID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8" name=""/>
          <p:cNvGrpSpPr/>
          <p:nvPr/>
        </p:nvGrpSpPr>
        <p:grpSpPr>
          <a:xfrm>
            <a:off x="1828800" y="2209680"/>
            <a:ext cx="5181120" cy="4079520"/>
            <a:chOff x="1828800" y="2209680"/>
            <a:chExt cx="5181120" cy="4079520"/>
          </a:xfrm>
        </p:grpSpPr>
        <p:sp>
          <p:nvSpPr>
            <p:cNvPr id="599" name=""/>
            <p:cNvSpPr/>
            <p:nvPr/>
          </p:nvSpPr>
          <p:spPr>
            <a:xfrm>
              <a:off x="5713560" y="591804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3809160" y="591804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1828800" y="591804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5713560" y="554976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3809160" y="554976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 4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1828800" y="554976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3560" y="518004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3809160" y="518004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1828800" y="518004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5713560" y="481032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3809160" y="481032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1828800" y="481032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713560" y="444060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3809160" y="444060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3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1828800" y="444060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5713560" y="407232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3809160" y="407232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 3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1828800" y="407232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713560" y="370296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3809160" y="370296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 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1828800" y="370296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5713560" y="333288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3809160" y="333288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828800" y="333288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5713560" y="296352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3809160" y="296352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1828800" y="296352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5713560" y="259524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3809160" y="259524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 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1828800" y="259524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713560" y="2209680"/>
              <a:ext cx="129456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List Siz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3809160" y="2209680"/>
              <a:ext cx="190440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ID Lis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1828800" y="2209680"/>
              <a:ext cx="198036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ttribute Val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828800" y="2209680"/>
              <a:ext cx="51796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828800" y="2595240"/>
              <a:ext cx="5179680" cy="1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1828800" y="296352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828800" y="333288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828800" y="370296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1828800" y="407232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1828800" y="4440600"/>
              <a:ext cx="51796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1828800" y="481032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828800" y="518004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828800" y="554976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1828800" y="591804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1828800" y="6287760"/>
              <a:ext cx="51796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1828800" y="2209680"/>
              <a:ext cx="1080" cy="407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3809160" y="2209680"/>
              <a:ext cx="1440" cy="407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713560" y="2209680"/>
              <a:ext cx="1080" cy="407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7008480" y="2209680"/>
              <a:ext cx="1440" cy="407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13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eneralize the 1-D inverted indices to multi-dimensional ones in the data cube sen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50" name=""/>
          <p:cNvGraphicFramePr/>
          <p:nvPr/>
        </p:nvGraphicFramePr>
        <p:xfrm>
          <a:off x="1600200" y="3124080"/>
          <a:ext cx="6400800" cy="2438640"/>
        </p:xfrm>
        <a:graphic>
          <a:graphicData uri="http://schemas.openxmlformats.org/drawingml/2006/table">
            <a:tbl>
              <a:tblPr/>
              <a:tblGrid>
                <a:gridCol w="1066680"/>
                <a:gridCol w="2743200"/>
                <a:gridCol w="1295640"/>
                <a:gridCol w="1295280"/>
              </a:tblGrid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e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Interse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TID Li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List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1 b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 2 3    1 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1 b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 2 3    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2 b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    1 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2 b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    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651" name=""/>
              <p:cNvSpPr txBox="1"/>
              <p:nvPr/>
            </p:nvSpPr>
            <p:spPr>
              <a:xfrm>
                <a:off x="3359160" y="3684600"/>
                <a:ext cx="22212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2" name=""/>
              <p:cNvSpPr txBox="1"/>
              <p:nvPr/>
            </p:nvSpPr>
            <p:spPr>
              <a:xfrm>
                <a:off x="3352680" y="419112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3" name=""/>
              <p:cNvSpPr txBox="1"/>
              <p:nvPr/>
            </p:nvSpPr>
            <p:spPr>
              <a:xfrm>
                <a:off x="3124080" y="467532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4" name=""/>
              <p:cNvSpPr txBox="1"/>
              <p:nvPr/>
            </p:nvSpPr>
            <p:spPr>
              <a:xfrm>
                <a:off x="3124080" y="518148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5" name=""/>
              <p:cNvSpPr txBox="1"/>
              <p:nvPr/>
            </p:nvSpPr>
            <p:spPr>
              <a:xfrm>
                <a:off x="5486400" y="5130720"/>
                <a:ext cx="30492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Ä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78771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ompute all cuboids for data cub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while retaining the inverted ind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example, shell fragment cub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contains 7 cuboi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, B, 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, AC, B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is completes the offline computation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3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iven a database of T tuples, D dimensions, and F shell fragment size, the fragment cubes’ space requirement i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F &lt; 5, the growth is sub-linea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0" name=""/>
              <p:cNvSpPr txBox="1"/>
              <p:nvPr/>
            </p:nvSpPr>
            <p:spPr>
              <a:xfrm>
                <a:off x="3048120" y="2971800"/>
                <a:ext cx="2895480" cy="12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  <m:d>
                          <m:dPr>
                            <m:begChr m:val="⌈"/>
                            <m:endChr m:val="⌉"/>
                          </m:dPr>
                          <m:e>
                            <m:f>
                              <m:num>
                                <m:r>
                                  <m:t xml:space="preserve">D</m:t>
                                </m:r>
                              </m:num>
                              <m:den>
                                <m:r>
                                  <m:t xml:space="preserve">F</m:t>
                                </m:r>
                              </m:den>
                            </m:f>
                          </m:e>
                        </m:d>
                        <m:r>
                          <m:t xml:space="preserve">(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F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4760" y="260280"/>
            <a:ext cx="8894880" cy="8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Preliminary Tricks (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SimSun"/>
              </a:rPr>
              <a:t>Agarwal et al. VLDB’96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orting, hashing, and grouping operations are applied to the dimension attributes in order to reorder and cluster related tup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Aggregates may be computed from previously computed aggregates, rather than from</a:t>
            </a:r>
            <a:r>
              <a:rPr b="0" lang="en-US" sz="2000" spc="-1" strike="noStrike">
                <a:solidFill>
                  <a:srgbClr val="00ff00"/>
                </a:solidFill>
                <a:latin typeface="Tahoma"/>
                <a:ea typeface="SimSun"/>
              </a:rPr>
              <a:t> the base fact t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mallest-child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computing a cuboid from the smallest, previously computed cuboi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Cache-result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 caching results of a cuboid from which other cuboids are computed to reduce disk I/O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Amortize-scan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computing as many as possible cuboids at the same time to amortize disk rea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hare-sort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 sharing sorting costs cross multiple cuboids when sort-based method is us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hare-partition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sharing the partitioning cost across multiple cuboids when hash-based algorithms are us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4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7954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s do not have to be disj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ragment groupings can be arbitrary to allow for maximum online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7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Known common combinations (e.g.,&lt;city, state&gt;) should be grouped togeth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 sizes can be adjusted for optimal balance between offline and online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ID_Measure Tabl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measures other th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ou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re present, store in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D_measu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able separate from the shell fra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65" name=""/>
          <p:cNvGrpSpPr/>
          <p:nvPr/>
        </p:nvGrpSpPr>
        <p:grpSpPr>
          <a:xfrm>
            <a:off x="2362320" y="2666880"/>
            <a:ext cx="4647600" cy="2895480"/>
            <a:chOff x="2362320" y="2666880"/>
            <a:chExt cx="4647600" cy="2895480"/>
          </a:xfrm>
        </p:grpSpPr>
        <p:sp>
          <p:nvSpPr>
            <p:cNvPr id="666" name=""/>
            <p:cNvSpPr/>
            <p:nvPr/>
          </p:nvSpPr>
          <p:spPr>
            <a:xfrm>
              <a:off x="5646960" y="507852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3911040" y="507852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2362320" y="507852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646960" y="4596480"/>
              <a:ext cx="136116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3911040" y="4596480"/>
              <a:ext cx="17341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2362320" y="4596480"/>
              <a:ext cx="15487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5646960" y="411408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3911040" y="411408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2362320" y="411408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5646960" y="363132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3911040" y="363132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2362320" y="363132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5646960" y="3149280"/>
              <a:ext cx="136116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7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3911040" y="3149280"/>
              <a:ext cx="17341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2362320" y="3149280"/>
              <a:ext cx="15487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5646960" y="266688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su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3911040" y="266688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ou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2362320" y="266688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i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2362320" y="2666880"/>
              <a:ext cx="464616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2362320" y="31492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2362320" y="3631320"/>
              <a:ext cx="4646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2362320" y="41140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2362320" y="45964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362320" y="5078520"/>
              <a:ext cx="4646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2362320" y="5561280"/>
              <a:ext cx="46461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2362320" y="2666880"/>
              <a:ext cx="1080" cy="289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3911040" y="2666880"/>
              <a:ext cx="1080" cy="289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5646960" y="2666880"/>
              <a:ext cx="1080" cy="289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7008480" y="2666880"/>
              <a:ext cx="1440" cy="289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The Frag-Shells Algorithm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-179640" y="1260360"/>
            <a:ext cx="91803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set of dimension (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…,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) into a set of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fragments (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…,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can base table once and do the follow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insert &lt;tid, measure&gt; into ID_measure tab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or each attribute value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f each dimension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build inverted index entry &lt;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 tidlist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or each fragment partition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build local fragment cube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by intersecting tid-lists in bottom-up fashi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7" name=""/>
          <p:cNvSpPr/>
          <p:nvPr/>
        </p:nvSpPr>
        <p:spPr>
          <a:xfrm>
            <a:off x="7121520" y="4452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Frag-Shells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1219320" y="2711520"/>
            <a:ext cx="2895120" cy="516960"/>
            <a:chOff x="1219320" y="2711520"/>
            <a:chExt cx="2895120" cy="516960"/>
          </a:xfrm>
        </p:grpSpPr>
        <p:sp>
          <p:nvSpPr>
            <p:cNvPr id="700" name=""/>
            <p:cNvSpPr/>
            <p:nvPr/>
          </p:nvSpPr>
          <p:spPr>
            <a:xfrm>
              <a:off x="369900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3286800" y="2711520"/>
              <a:ext cx="4122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87244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2459880" y="2711520"/>
              <a:ext cx="41256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204552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1633320" y="2711520"/>
              <a:ext cx="4122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121932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1219320" y="2711520"/>
              <a:ext cx="289404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1219320" y="3227040"/>
              <a:ext cx="28940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1219320" y="2711520"/>
              <a:ext cx="1080" cy="515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163332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2045520" y="2711520"/>
              <a:ext cx="144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245988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287244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328680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69900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4113360" y="2711520"/>
              <a:ext cx="1080" cy="515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7" name=""/>
          <p:cNvSpPr/>
          <p:nvPr/>
        </p:nvSpPr>
        <p:spPr>
          <a:xfrm rot="16200000">
            <a:off x="1711440" y="290160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 rot="16200000">
            <a:off x="3006720" y="290160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1295280" y="377820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666880" y="377820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1313640" y="4768920"/>
            <a:ext cx="73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AB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Cu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669040" y="4768920"/>
            <a:ext cx="73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DE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Cu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 flipV="1">
            <a:off x="3505320" y="3355920"/>
            <a:ext cx="1218960" cy="88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4876920" y="2320920"/>
            <a:ext cx="3124080" cy="308916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5590440" y="2286000"/>
            <a:ext cx="105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D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5371200" y="2556000"/>
            <a:ext cx="112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EF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5191920" y="2819520"/>
            <a:ext cx="117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DE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8" name=""/>
          <p:cNvGrpSpPr/>
          <p:nvPr/>
        </p:nvGrpSpPr>
        <p:grpSpPr>
          <a:xfrm>
            <a:off x="4952880" y="3124080"/>
            <a:ext cx="2395440" cy="1614240"/>
            <a:chOff x="4952880" y="3124080"/>
            <a:chExt cx="2395440" cy="1614240"/>
          </a:xfrm>
        </p:grpSpPr>
        <p:sp>
          <p:nvSpPr>
            <p:cNvPr id="729" name=""/>
            <p:cNvSpPr/>
            <p:nvPr/>
          </p:nvSpPr>
          <p:spPr>
            <a:xfrm>
              <a:off x="5846040" y="441828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4952880" y="441828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5846040" y="4080240"/>
              <a:ext cx="150084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5, 10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4952880" y="4080240"/>
              <a:ext cx="89316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2 e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5846040" y="376164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2, 4, 6, 7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4952880" y="376164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1 e2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5846040" y="344304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1, 3, 8, 9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4952880" y="344304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1 e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5846040" y="3124080"/>
              <a:ext cx="150084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uple-ID Lis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4952880" y="3124080"/>
              <a:ext cx="89316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ell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4952880" y="34430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4952880" y="37616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4952880" y="4080240"/>
              <a:ext cx="2394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4952880" y="47372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4952880" y="3124080"/>
              <a:ext cx="144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5846040" y="3124080"/>
              <a:ext cx="108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441828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4952880" y="3124080"/>
              <a:ext cx="2394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7347240" y="3124080"/>
              <a:ext cx="108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8" name=""/>
          <p:cNvSpPr/>
          <p:nvPr/>
        </p:nvSpPr>
        <p:spPr>
          <a:xfrm>
            <a:off x="1935360" y="2286000"/>
            <a:ext cx="145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Dimen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8742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 query has the general 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ach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has 3 possible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stantiated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ggregate * fun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quire ? fun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example,                                returns a 2-D data cub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1" name=""/>
              <p:cNvSpPr txBox="1"/>
              <p:nvPr/>
            </p:nvSpPr>
            <p:spPr>
              <a:xfrm>
                <a:off x="5257800" y="1676520"/>
                <a:ext cx="213372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⟨"/>
                        <m:endChr m:val="⟩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:</m:t>
                        </m:r>
                        <m:r>
                          <m:t xml:space="preserve">M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2" name=""/>
              <p:cNvSpPr txBox="1"/>
              <p:nvPr/>
            </p:nvSpPr>
            <p:spPr>
              <a:xfrm>
                <a:off x="2895480" y="4764240"/>
                <a:ext cx="296568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⟨"/>
                        <m:endChr m:val="⟩"/>
                      </m:dPr>
                      <m:e>
                        <m:m>
                          <m:mr>
                            <m:e>
                              <m:m>
                                <m:mr>
                                  <m:e>
                                    <m:r>
                                      <m:t xml:space="preserve">3</m:t>
                                    </m:r>
                                  </m:e>
                                  <m:e>
                                    <m:r>
                                      <m:t xml:space="preserve">?</m:t>
                                    </m:r>
                                  </m:e>
                                </m:mr>
                              </m:m>
                            </m:e>
                            <m:e>
                              <m:r>
                                <m:t xml:space="preserve">?</m:t>
                              </m:r>
                            </m:e>
                            <m:e/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coun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954920" cy="51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0480" indent="-600480">
              <a:lnSpc>
                <a:spcPct val="13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iven the fragment cubes, process a query as follow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Divide the query into fragment, same as the sh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etch the corresponding TID list for each fragment from the fragment cub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tersect the TID lists from each fragment to construct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stantiated base 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ompute the data cube using the base table with any cubing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 (3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1066680" y="2057400"/>
            <a:ext cx="6210000" cy="517320"/>
            <a:chOff x="1066680" y="2057400"/>
            <a:chExt cx="6210000" cy="517320"/>
          </a:xfrm>
        </p:grpSpPr>
        <p:sp>
          <p:nvSpPr>
            <p:cNvPr id="757" name=""/>
            <p:cNvSpPr/>
            <p:nvPr/>
          </p:nvSpPr>
          <p:spPr>
            <a:xfrm>
              <a:off x="686088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644652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3252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561816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52038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4790160" y="2057400"/>
              <a:ext cx="41364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43758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96144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54744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134520" y="2057400"/>
              <a:ext cx="41256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72016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2307960" y="2057400"/>
              <a:ext cx="4122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18936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1480680" y="2057400"/>
              <a:ext cx="41256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106668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1066680" y="2057400"/>
              <a:ext cx="62085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1066680" y="2573640"/>
              <a:ext cx="62085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1066680" y="2057400"/>
              <a:ext cx="1440" cy="516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148068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189360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230796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272016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134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54744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7275240" y="2057400"/>
              <a:ext cx="1440" cy="516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96144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437580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479016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520380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561816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6032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446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86088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0" name=""/>
          <p:cNvSpPr/>
          <p:nvPr/>
        </p:nvSpPr>
        <p:spPr>
          <a:xfrm rot="16200000">
            <a:off x="1558800" y="225360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 rot="16200000">
            <a:off x="2854440" y="225396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1143000" y="313056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2514600" y="313056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 rot="16200000">
            <a:off x="4073400" y="224712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373392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 rot="16200000">
            <a:off x="5292720" y="224748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495288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 rot="16200000">
            <a:off x="6588000" y="224712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624852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1143000" y="373392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2514600" y="350532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3733920" y="3809880"/>
            <a:ext cx="685800" cy="180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4952880" y="365760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6248520" y="342900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 flipV="1">
            <a:off x="1828800" y="350208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 flipV="1">
            <a:off x="3200400" y="327348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 flipV="1">
            <a:off x="4419720" y="357840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 flipV="1">
            <a:off x="5638680" y="3425400"/>
            <a:ext cx="228600" cy="2350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 flipV="1">
            <a:off x="6934320" y="3196800"/>
            <a:ext cx="228600" cy="2350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5334120" y="4724280"/>
            <a:ext cx="1904760" cy="160020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On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Cu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4114800" y="5410080"/>
            <a:ext cx="838080" cy="381240"/>
          </a:xfrm>
          <a:prstGeom prst="rightArrow">
            <a:avLst>
              <a:gd name="adj1" fmla="val 50000"/>
              <a:gd name="adj2" fmla="val 54958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1143000" y="4724280"/>
            <a:ext cx="2590920" cy="1600200"/>
          </a:xfrm>
          <a:prstGeom prst="flowChartInternalStorage">
            <a:avLst/>
          </a:prstGeom>
          <a:solidFill>
            <a:srgbClr val="00e4a8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Instantia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Base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1523880" y="3809880"/>
            <a:ext cx="18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 flipH="1">
            <a:off x="1825200" y="3581280"/>
            <a:ext cx="10731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 flipH="1">
            <a:off x="2435400" y="3886200"/>
            <a:ext cx="15300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 flipH="1">
            <a:off x="3044520" y="3733920"/>
            <a:ext cx="23684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 flipH="1">
            <a:off x="3501720" y="3505320"/>
            <a:ext cx="282564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348760" cy="10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Size vs. Dimensionality (50 and 100 cardinality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1218960" y="6019920"/>
            <a:ext cx="701028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50-C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0 skew, 50 cardinality, fragment size 3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0-C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 skew, 100 cardinality, fragment size 2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20" name="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685440" y="-3240"/>
            <a:ext cx="77929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Size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2" name="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823" name=""/>
          <p:cNvSpPr/>
          <p:nvPr/>
        </p:nvSpPr>
        <p:spPr>
          <a:xfrm>
            <a:off x="1371600" y="6019920"/>
            <a:ext cx="7162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5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50 dimensions, 0 skew, 50 cardinalit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0 dimensions, 2 skew, 25 cardinalit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74872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Run-time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5" name="" descr=""/>
          <p:cNvPicPr/>
          <p:nvPr/>
        </p:nvPicPr>
        <p:blipFill>
          <a:blip r:embed="rId1"/>
          <a:stretch/>
        </p:blipFill>
        <p:spPr>
          <a:xfrm>
            <a:off x="2057400" y="1828800"/>
            <a:ext cx="5410080" cy="4057560"/>
          </a:xfrm>
          <a:prstGeom prst="rect">
            <a:avLst/>
          </a:prstGeom>
          <a:ln w="0">
            <a:noFill/>
          </a:ln>
        </p:spPr>
      </p:pic>
      <p:sp>
        <p:nvSpPr>
          <p:cNvPr id="826" name=""/>
          <p:cNvSpPr/>
          <p:nvPr/>
        </p:nvSpPr>
        <p:spPr>
          <a:xfrm>
            <a:off x="1905120" y="6019920"/>
            <a:ext cx="61722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0 dimensions, 10 cardinality, skew 1, fragment size 3, 3 instantiated dimensi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57960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Array-based </a:t>
            </a:r>
            <a:r>
              <a:rPr b="0" lang="en-US" sz="2600" spc="-1" strike="noStrike">
                <a:solidFill>
                  <a:srgbClr val="006666"/>
                </a:solidFill>
                <a:latin typeface="Tahoma"/>
                <a:ea typeface="SimSun"/>
              </a:rPr>
              <a:t>“bottom-up”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 algorithm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Using multi-dimensional chunk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No direct tuple comparison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Simultaneous aggregation on multiple dimension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Intermediate aggregate values are re-used for computing ancestor cuboid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056280" y="2303640"/>
          <a:ext cx="2943360" cy="327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56280" y="2303640"/>
                    <a:ext cx="2943360" cy="32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127080" y="498600"/>
            <a:ext cx="887256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 I/O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8" name="" descr=""/>
          <p:cNvPicPr/>
          <p:nvPr/>
        </p:nvPicPr>
        <p:blipFill>
          <a:blip r:embed="rId1"/>
          <a:stretch/>
        </p:blipFill>
        <p:spPr>
          <a:xfrm>
            <a:off x="19810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829" name=""/>
          <p:cNvSpPr/>
          <p:nvPr/>
        </p:nvSpPr>
        <p:spPr>
          <a:xfrm>
            <a:off x="762120" y="5940360"/>
            <a:ext cx="792468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 dimensions, 10 cardinalty, 0 skew, 4 inst., 4 quer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2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0 dimensions, 10 cardinalty, 1 skew, 3 inst., 4 quer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179280" y="-171720"/>
            <a:ext cx="896472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Experiment: I/O vs. # of Instantiated Dimension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31" name="" descr=""/>
          <p:cNvPicPr/>
          <p:nvPr/>
        </p:nvPicPr>
        <p:blipFill>
          <a:blip r:embed="rId1"/>
          <a:stretch/>
        </p:blipFill>
        <p:spPr>
          <a:xfrm>
            <a:off x="1905120" y="1828800"/>
            <a:ext cx="5257800" cy="3943440"/>
          </a:xfrm>
          <a:prstGeom prst="rect">
            <a:avLst/>
          </a:prstGeom>
          <a:ln w="0">
            <a:noFill/>
          </a:ln>
        </p:spPr>
      </p:pic>
      <p:sp>
        <p:nvSpPr>
          <p:cNvPr id="832" name=""/>
          <p:cNvSpPr/>
          <p:nvPr/>
        </p:nvSpPr>
        <p:spPr>
          <a:xfrm>
            <a:off x="1828800" y="5943600"/>
            <a:ext cx="6095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 dimensions, 10 cardinalty, 0 skew, fragment size 1, 7 total relevant dimensi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ummary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Efficient algorithms for computing data cub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Multiway array aggreg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BU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Star-cub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 OLAP by minimal cub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References (I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0" y="1260360"/>
            <a:ext cx="9144000" cy="54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S. Agarwal, R. Agrawal, P. M. Deshpande, A. Gupta, J. F. Naughton, R. Ramakrishnan, and S. Sarawagi.  On the computation of multidimensional aggregates. VLDB’96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D. Agrawal, A. E. Abbadi, A. Singh, and T. Yurek. Efficient view maintenance in data warehouses. SIGMOD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R. Agrawal, A. Gupta, and S. Sarawagi. Modeling multidimensional databases.  ICDE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K. Beyer and R. Ramakrishnan. Bottom-Up Computation of Sparse and Iceberg CUBEs.. SIGMOD’99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Y. Chen, G. Dong, J. Han, B. W. Wah, and J. Wang, Multi-Dimensional Regression Analysis of Time-Series Data Streams, VLDB'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G. Dong, J. Han, J. Lam, J. Pei, K. Wang. Mining Multi-dimensional Constrained Gradients in Data Cubes. VLDB’ 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J. Han, Y. Cai and N. Cercone, Knowledge Discovery in Databases: An Attribute-Oriented Approach, VLDB'9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J. Han, J. Pei, G. Dong, K. Wang. Efficient Computation of Iceberg Cubes With Complex Measures. SIGMOD’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References (II)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458200" cy="517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L. V. S. Lakshmanan, J. Pei, and J. Han, Quotient Cube: How to Summarize the Semantics of a Data Cube, VLDB'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X. Li, J. Han, and H. Gonzalez, High-Dimensional OLAP: A Minimal Cubing Approach, VLDB'04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K. Ross and D. Srivastava.  Fast computation of sparse datacubes. VLDB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K. A. Ross, D. Srivastava, and D. Chatziantoniou. Complex aggregation at multiple granularities. EDBT'98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S. Sarawagi, R. Agrawal, and N. Megiddo. Discovery-driven exploration of OLAP data cubes. EDBT'98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G. Sathe and S. Sarawagi. Intelligent Rollups in Multidimensional OLAP Data. 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VLDB'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D. Xin, J. Han, X. Li, B. W. Wah, Star-Cubing: Computing Iceberg Cubes by Top-Down and Bottom-Up Integration, VLDB'03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D. Xin, J. Han, Z. Shao, H. Liu,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C-Cubing: Efficient Computation of Closed Cubes by Aggregation-Based Checking, ICDE'06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W. Wang, H. Lu, J. Feng, J. X. Yu, Condensed Cube: An Effective Approach to Reducing Data Cube Size. ICDE’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Y. Zhao, P. M. Deshpande, and J. F. Naughton. An array-based algorithm for simultaneous multidimensional aggregates. SIGMOD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150840"/>
            <a:ext cx="746784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 (MOLAP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37760" y="1260360"/>
            <a:ext cx="838188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arrays into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SimSun"/>
              </a:rPr>
              <a:t>chunk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(a small subcube which fits in memory)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ressed sparse array addressing: (chunk_id, offset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ute aggregates in “multiway” by visiting cube cells in the order which minimizes the # of times to visit each cell, and reduces memory access and storage co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5943600" y="3886200"/>
            <a:ext cx="2362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SimSun"/>
              </a:rPr>
              <a:t>What is the best traversing order to do multi-way aggreg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550800" y="3419640"/>
            <a:ext cx="4832640" cy="3218400"/>
            <a:chOff x="550800" y="3419640"/>
            <a:chExt cx="4832640" cy="3218400"/>
          </a:xfrm>
        </p:grpSpPr>
        <p:sp>
          <p:nvSpPr>
            <p:cNvPr id="115" name=""/>
            <p:cNvSpPr/>
            <p:nvPr/>
          </p:nvSpPr>
          <p:spPr>
            <a:xfrm>
              <a:off x="2565720" y="6302520"/>
              <a:ext cx="2019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409400" y="414468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370400" y="49143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370400" y="444888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370400" y="398412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114800" y="508536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114800" y="462204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114800" y="4158720"/>
              <a:ext cx="925200" cy="569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857760" y="526140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857760" y="479844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857760" y="433332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061360" y="353664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804320" y="370980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548720" y="3884400"/>
              <a:ext cx="9284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31040" y="353664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575440" y="370980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318760" y="388440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600720" y="353664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346920" y="370980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088080" y="38844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372200" y="353664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114800" y="370980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857760" y="38844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307880" y="543456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307880" y="496980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307880" y="450612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075760" y="543456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075760" y="496980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075760" y="4506120"/>
              <a:ext cx="9266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845440" y="54345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845440" y="49698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45440" y="450612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616560" y="54345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616560" y="49698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616560" y="450612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307880" y="405720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77200" y="4057200"/>
              <a:ext cx="9270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846880" y="4057200"/>
              <a:ext cx="9266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627720" y="404928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86264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63556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40524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18140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62180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39796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24360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94344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621800" y="521244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621800" y="475848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62756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40228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17520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94776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72068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94776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17520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40228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48884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71772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94336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17080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32344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61388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967760" y="346356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70760" y="361296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436400" y="380952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199520" y="395244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 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081800" y="43441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081800" y="47854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081800" y="52218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081800" y="57124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09132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85632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080360" y="3419640"/>
              <a:ext cx="203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50800" y="4931640"/>
              <a:ext cx="203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920840" y="44442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623840" y="46378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154120" y="47332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920840" y="49316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625280" y="50756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154120" y="51775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860360" y="53200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625280" y="5515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154120" y="42472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294920" y="225360"/>
            <a:ext cx="662940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2927160" y="2492280"/>
            <a:ext cx="3935520" cy="3096000"/>
            <a:chOff x="2927160" y="2492280"/>
            <a:chExt cx="3935520" cy="3096000"/>
          </a:xfrm>
        </p:grpSpPr>
        <p:sp>
          <p:nvSpPr>
            <p:cNvPr id="201" name=""/>
            <p:cNvSpPr/>
            <p:nvPr/>
          </p:nvSpPr>
          <p:spPr>
            <a:xfrm>
              <a:off x="4279320" y="528300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250440" y="320256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948640" y="3894480"/>
              <a:ext cx="84852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948640" y="344412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948640" y="299376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715000" y="40611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715000" y="361260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715000" y="316332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478480" y="4232880"/>
              <a:ext cx="848880" cy="5504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478480" y="3783600"/>
              <a:ext cx="848880" cy="5504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478480" y="3331440"/>
              <a:ext cx="8488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832920" y="2560320"/>
              <a:ext cx="8488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598560" y="272844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362040" y="2898360"/>
              <a:ext cx="85176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537440" y="2560320"/>
              <a:ext cx="8503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303080" y="2728440"/>
              <a:ext cx="84996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068000" y="2898360"/>
              <a:ext cx="84852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244120" y="256032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010480" y="2728440"/>
              <a:ext cx="8488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773960" y="2898360"/>
              <a:ext cx="84708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950080" y="256032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715000" y="272844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478480" y="2898360"/>
              <a:ext cx="84888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141360" y="439920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141360" y="395028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141360" y="34995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845880" y="4399200"/>
              <a:ext cx="84996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845880" y="3950280"/>
              <a:ext cx="84996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845880" y="3499560"/>
              <a:ext cx="84996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551840" y="439920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551840" y="395028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551840" y="349956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258160" y="439920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258160" y="395028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258160" y="34995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142800" y="306504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847320" y="306504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551840" y="3065040"/>
              <a:ext cx="8503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267880" y="305712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63816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3459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0551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7643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4272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1346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9140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55012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427200" y="420732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427200" y="376920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42684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13316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84236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55012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25932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55012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84236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13316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04692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33736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63104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92040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06116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41244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35720" y="251424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466440" y="265716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249000" y="284616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034800" y="2989080"/>
              <a:ext cx="243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927160" y="33663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927160" y="37915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927160" y="42170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27160" y="46897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76424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46696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927520" y="249228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441840" y="34617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170400" y="36489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657840" y="37440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441840" y="39344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170400" y="40741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657840" y="41691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387840" y="43106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170400" y="45007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657840" y="32709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4" name=""/>
          <p:cNvSpPr/>
          <p:nvPr/>
        </p:nvSpPr>
        <p:spPr>
          <a:xfrm>
            <a:off x="3124080" y="1600200"/>
            <a:ext cx="3733920" cy="533520"/>
          </a:xfrm>
          <a:prstGeom prst="parallelogram">
            <a:avLst>
              <a:gd name="adj" fmla="val 1749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295280" y="4800600"/>
            <a:ext cx="28195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4111560" y="320040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4111560" y="495288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3124080" y="2130120"/>
            <a:ext cx="180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5943600" y="2130120"/>
            <a:ext cx="144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6781680" y="1596600"/>
            <a:ext cx="1800" cy="99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3962520" y="2130120"/>
            <a:ext cx="1440" cy="46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7432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981080" y="4800600"/>
            <a:ext cx="180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4290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29528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295280" y="5257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295280" y="61722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590920" y="368604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759960" y="2590920"/>
            <a:ext cx="916200" cy="2512800"/>
            <a:chOff x="759960" y="2590920"/>
            <a:chExt cx="916200" cy="2512800"/>
          </a:xfrm>
        </p:grpSpPr>
        <p:sp>
          <p:nvSpPr>
            <p:cNvPr id="300" name=""/>
            <p:cNvSpPr/>
            <p:nvPr/>
          </p:nvSpPr>
          <p:spPr>
            <a:xfrm flipH="1" rot="16200000">
              <a:off x="-35280" y="3392280"/>
              <a:ext cx="2512800" cy="910080"/>
            </a:xfrm>
            <a:prstGeom prst="parallelogram">
              <a:avLst>
                <a:gd name="adj" fmla="val 6902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218600" y="289512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90720" y="3047760"/>
              <a:ext cx="1080" cy="190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446120" y="274284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flipH="1">
              <a:off x="759960" y="35805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H="1">
              <a:off x="759960" y="31233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759960" y="403740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7" name=""/>
          <p:cNvSpPr/>
          <p:nvPr/>
        </p:nvSpPr>
        <p:spPr>
          <a:xfrm>
            <a:off x="3657600" y="1828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429000" y="1981080"/>
            <a:ext cx="2743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873600" y="1701720"/>
            <a:ext cx="2781360" cy="1800"/>
          </a:xfrm>
          <a:custGeom>
            <a:avLst/>
            <a:gdLst/>
            <a:ahLst/>
            <a:rect l="l" t="t" r="r" b="b"/>
            <a:pathLst>
              <a:path w="1752" h="1">
                <a:moveTo>
                  <a:pt x="0" y="0"/>
                </a:moveTo>
                <a:lnTo>
                  <a:pt x="175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H="1">
            <a:off x="4416120" y="1600200"/>
            <a:ext cx="996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373032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flipH="1">
            <a:off x="517824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62120" y="4648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676520" y="4495680"/>
            <a:ext cx="14475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676520" y="2590920"/>
            <a:ext cx="2286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762120" y="3200400"/>
            <a:ext cx="2438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762120" y="5105520"/>
            <a:ext cx="533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1295280" y="3196800"/>
            <a:ext cx="1828800" cy="160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914400" y="45720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762120" y="48006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914400" y="47242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486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7242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0384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3526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5053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895480" y="62485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1337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4479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219320" y="150840"/>
            <a:ext cx="624816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"/>
          <p:cNvSpPr/>
          <p:nvPr/>
        </p:nvSpPr>
        <p:spPr>
          <a:xfrm>
            <a:off x="4280400" y="528480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251160" y="320328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950080" y="3895560"/>
            <a:ext cx="84924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950080" y="344484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950080" y="299412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716440" y="406224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716440" y="361332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716440" y="3164040"/>
            <a:ext cx="84780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479920" y="4233960"/>
            <a:ext cx="849600" cy="5508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79920" y="3784680"/>
            <a:ext cx="849600" cy="5508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479920" y="3332160"/>
            <a:ext cx="8496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833640" y="2560680"/>
            <a:ext cx="84960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598920" y="272880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362400" y="2898720"/>
            <a:ext cx="85248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538520" y="2560680"/>
            <a:ext cx="8510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303800" y="2728800"/>
            <a:ext cx="85068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068720" y="2898720"/>
            <a:ext cx="84924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245200" y="2560680"/>
            <a:ext cx="8492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011560" y="2728800"/>
            <a:ext cx="8496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775040" y="2898720"/>
            <a:ext cx="84780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951520" y="2560680"/>
            <a:ext cx="8492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716440" y="272880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479920" y="2898720"/>
            <a:ext cx="84960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141720" y="440064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141720" y="395136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141720" y="350028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46600" y="4400640"/>
            <a:ext cx="85068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846600" y="3951360"/>
            <a:ext cx="85068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846600" y="3500280"/>
            <a:ext cx="85068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552920" y="4400640"/>
            <a:ext cx="84924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552920" y="3951360"/>
            <a:ext cx="84924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552920" y="3500280"/>
            <a:ext cx="84924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259240" y="440064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259240" y="395136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259240" y="350028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143160" y="306540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848040" y="306540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552920" y="3065400"/>
            <a:ext cx="8510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68960" y="305748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63852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664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5620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76576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42756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13532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1508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55156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427560" y="420840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427560" y="377028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42756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13388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84344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55156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26112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55156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484344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13388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04836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33880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63248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112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06224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41280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736800" y="251460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466800" y="265752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249360" y="284652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035160" y="2989440"/>
            <a:ext cx="243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927520" y="33670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927520" y="37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927520" y="42181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927520" y="469116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76568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46876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927520" y="249228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443640" y="34624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172200" y="36496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6659640" y="37450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443640" y="39355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172200" y="40752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659640" y="417024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6389640" y="43117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172200" y="450216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659640" y="32716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124080" y="1600200"/>
            <a:ext cx="3733920" cy="533520"/>
          </a:xfrm>
          <a:prstGeom prst="parallelogram">
            <a:avLst>
              <a:gd name="adj" fmla="val 1749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1295280" y="4800600"/>
            <a:ext cx="28195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>
            <a:off x="4111560" y="320040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4111560" y="495288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V="1">
            <a:off x="3124080" y="2130120"/>
            <a:ext cx="180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V="1">
            <a:off x="5943600" y="2130120"/>
            <a:ext cx="144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flipV="1">
            <a:off x="6781680" y="1596600"/>
            <a:ext cx="1800" cy="99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 flipV="1">
            <a:off x="3962520" y="2130120"/>
            <a:ext cx="1440" cy="46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7432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1981080" y="4800600"/>
            <a:ext cx="180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4290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129528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1295280" y="5257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295280" y="61722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2590920" y="368604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759960" y="2590920"/>
            <a:ext cx="916200" cy="2512800"/>
            <a:chOff x="759960" y="2590920"/>
            <a:chExt cx="916200" cy="2512800"/>
          </a:xfrm>
        </p:grpSpPr>
        <p:sp>
          <p:nvSpPr>
            <p:cNvPr id="430" name=""/>
            <p:cNvSpPr/>
            <p:nvPr/>
          </p:nvSpPr>
          <p:spPr>
            <a:xfrm flipH="1" rot="16200000">
              <a:off x="-35280" y="3392280"/>
              <a:ext cx="2512800" cy="910080"/>
            </a:xfrm>
            <a:prstGeom prst="parallelogram">
              <a:avLst>
                <a:gd name="adj" fmla="val 6902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218600" y="289512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990720" y="3047760"/>
              <a:ext cx="1080" cy="190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446120" y="274284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 flipH="1">
              <a:off x="759960" y="35805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759960" y="31233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759960" y="403740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7" name=""/>
          <p:cNvSpPr/>
          <p:nvPr/>
        </p:nvSpPr>
        <p:spPr>
          <a:xfrm>
            <a:off x="3657600" y="1828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429000" y="1981080"/>
            <a:ext cx="2743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873600" y="1701720"/>
            <a:ext cx="2781360" cy="1800"/>
          </a:xfrm>
          <a:custGeom>
            <a:avLst/>
            <a:gdLst/>
            <a:ahLst/>
            <a:rect l="l" t="t" r="r" b="b"/>
            <a:pathLst>
              <a:path w="1752" h="1">
                <a:moveTo>
                  <a:pt x="0" y="0"/>
                </a:moveTo>
                <a:lnTo>
                  <a:pt x="175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 flipH="1">
            <a:off x="4416120" y="1600200"/>
            <a:ext cx="996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flipH="1">
            <a:off x="373032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 flipH="1">
            <a:off x="517824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762120" y="4648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676520" y="4495680"/>
            <a:ext cx="14475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676520" y="2590920"/>
            <a:ext cx="2286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762120" y="3200400"/>
            <a:ext cx="2438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762120" y="5105520"/>
            <a:ext cx="533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 flipV="1">
            <a:off x="1295280" y="3196800"/>
            <a:ext cx="1828800" cy="160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914400" y="45720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762120" y="48006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914400" y="47242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6576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5486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7242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0384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3526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5053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2895480" y="62485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21337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4479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35053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2895480" y="57913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21337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4479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32767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914400" y="4267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62120" y="43434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914400" y="41148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762120" y="4191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762120" y="380988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914400" y="37339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762120" y="3962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914400" y="38862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447920" y="48769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5053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2895480" y="53341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1337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14479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45720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4343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38862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505320" y="20574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32004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5791320" y="198108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52578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50292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79280" y="190440"/>
            <a:ext cx="86407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 (Cont.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38188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Method: the planes should be sorted and computed according to their size in ascending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00ff"/>
                </a:solidFill>
                <a:latin typeface="Tahoma"/>
                <a:ea typeface="SimSun"/>
              </a:rPr>
              <a:t>Idea: keep the smallest plane in the main memory, fetch and compute only one chunk at a time for the largest plan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Limitation of the method: computing well only for a small number of dimen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there are a large number of dimensions, “</a:t>
            </a:r>
            <a:r>
              <a:rPr b="0" lang="en-US" sz="2400" spc="-1" strike="noStrike">
                <a:solidFill>
                  <a:srgbClr val="006666"/>
                </a:solidFill>
                <a:latin typeface="Tahoma"/>
                <a:ea typeface="SimSun"/>
              </a:rPr>
              <a:t>top-dow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” computation and iceberg cube computation methods can be expl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Bottom-Up Computation (BUC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78920" y="1341000"/>
            <a:ext cx="50022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Divides dimensions into segments and facilitates iceberg pru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f a partition does not satisf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min_su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, its descendants can be pruned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minsu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= 1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compute full CUB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No simultaneous aggreg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91" name=""/>
          <p:cNvGraphicFramePr/>
          <p:nvPr/>
        </p:nvGraphicFramePr>
        <p:xfrm>
          <a:off x="5486400" y="1295280"/>
          <a:ext cx="3048120" cy="23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86400" y="1295280"/>
                    <a:ext cx="304812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3" name=""/>
          <p:cNvGraphicFramePr/>
          <p:nvPr/>
        </p:nvGraphicFramePr>
        <p:xfrm>
          <a:off x="5257800" y="3809880"/>
          <a:ext cx="3657600" cy="2816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57800" y="3809880"/>
                    <a:ext cx="3657600" cy="281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iawei Han</dc:creator>
  <dc:description/>
  <dc:language>en-US</dc:language>
  <cp:lastModifiedBy>Weifa Liang</cp:lastModifiedBy>
  <dcterms:modified xsi:type="dcterms:W3CDTF">2009-03-29T05:23:55Z</dcterms:modified>
  <cp:revision>29</cp:revision>
  <dc:subject/>
  <dc:title>No Slide Title</dc:title>
</cp:coreProperties>
</file>