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31CB-5AA9-4C19-8A9F-FED943D88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CDEE-2E78-445C-97C6-C426F9E7E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404C-1CCD-453E-B90B-A7429A63B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8D52-EA5A-4180-A5E4-00523D1A6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77618-FFE2-417F-A169-03A975930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B1D8C-5A3E-4C34-A5CA-8C43C51FB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9D36B-C924-45EE-BA1E-0EBB1EF1F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F5D32-D752-4610-91AB-6C31641F9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410D9-52A4-44AF-835F-E741317DE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97F48-DFC3-4C3A-8303-E8FCD02B0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7A741-9D18-41EE-8AE3-CD421254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580F-6C33-47C5-BFC8-1EF3F1686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A1F8A-BC27-40B7-A9E2-81E4F85F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7E5CD-1D3A-440F-B263-117F978A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4DB9B-A885-4665-AEA7-C2325DD7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0A5BB-0A5E-41E8-81CA-4C351BBA9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13A07-6DC6-4D92-88D2-EE6199A59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57F5-D758-49C3-AFCB-DA9AAEA04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2395-C1E5-42AC-9273-9B6E480AB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0EE5-7B29-4329-A725-8FA9568A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2BDA-79F1-47C9-9358-28F147451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DDF4-8A35-44C7-A5FB-8DEEFE54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DDA7-30E2-41D8-9FEA-50EF3A9D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8414-60FD-4AC6-A7E0-4F364984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F2753-0475-4AF7-B62F-9DD03F7537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4CE1F-0D3F-4C04-8195-9CE3434BF1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F6321-0B49-4089-BE33-7604B7AAB11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9491-785E-4874-B7D6-65432B515E4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C4CA-736E-4FBF-B2A7-C888133C2AD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6340-07B4-4209-9471-3EC4FEA4434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740E-4CC7-436B-8689-457C9009382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37F0-EA8B-4E0C-A994-8812DBD74C9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1BC4-4A2E-487B-99B1-BEB6D383801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8288-D0FE-4980-9B14-F7A45708480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4D8C-CC8B-4721-A1E1-BE0F7B328D0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E7A9-CED7-4091-B885-15A1D28930E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BCB2-C62D-433F-A884-3615819DECD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734C-E373-4B8E-A4FD-CCC99FF1F07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5:52:21Z</dcterms:modified>
  <cp:revision>2</cp:revision>
  <dc:subject/>
  <dc:title>The R genetics package: tools for using genetic data in statistical  models</dc:title>
</cp:coreProperties>
</file>