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54992"/>
        <c:axId val="60488484"/>
      </c:barChart>
      <c:catAx>
        <c:axId val="169549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88484"/>
        <c:crosses val="autoZero"/>
        <c:auto val="1"/>
        <c:lblAlgn val="ctr"/>
        <c:lblOffset val="100"/>
        <c:noMultiLvlLbl val="0"/>
      </c:catAx>
      <c:valAx>
        <c:axId val="604884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549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45DC-22DA-4ED3-93ED-73118232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526-389C-44F5-BE64-5A807778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15B4-E26A-4CFB-907C-9B3B03FD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4FE-9043-4585-80EE-77764A05E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98EF-619E-401C-AF37-8BC1B587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42D0-5B63-437C-BFD9-7BE5B4082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A3E-8020-468B-B537-270CEC0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C768-F22B-4E35-98E8-7288D816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08F-CDED-484E-81BA-13E5B24D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5C0-AC8B-4EBB-A2D9-5920559C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B4A-B6CB-4977-A6F3-24BA5AEA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B86-2E47-4171-BE20-CADBADCB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7552F-E248-40DF-B039-C3F9C67475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