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846263"/>
        <c:axId val="64809330"/>
      </c:barChart>
      <c:catAx>
        <c:axId val="748462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09330"/>
        <c:crosses val="autoZero"/>
        <c:auto val="1"/>
        <c:lblAlgn val="ctr"/>
        <c:lblOffset val="100"/>
        <c:noMultiLvlLbl val="0"/>
      </c:catAx>
      <c:valAx>
        <c:axId val="648093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462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8E07-55AB-43E3-8FFF-E0D8A71F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446C-774A-4F18-9DB8-6F212ECE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95A8-840C-4B1C-8FBC-8DDB624A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FF5B-4C56-472B-B5C1-AF97206F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3221-2381-40AA-A939-A0E80E73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50DE-CAE0-4330-BA22-A1488FA8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9201-FD0B-4369-B9CF-EEA7D1B3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20A0-E7DB-43C5-AF63-5B92AEE7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3773-125C-49DD-BCD7-F3A5BFF8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A87-200B-4E24-BE78-B62FCB32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23EF-0446-48C4-BAE1-C102D7CF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7A69-A7ED-4294-B477-A2E7D177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C1BEA-2724-42BB-9DDC-440E1395D6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