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09737"/>
        <c:axId val="82911088"/>
      </c:barChart>
      <c:catAx>
        <c:axId val="19609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11088"/>
        <c:crosses val="autoZero"/>
        <c:auto val="1"/>
        <c:lblAlgn val="ctr"/>
        <c:lblOffset val="100"/>
        <c:noMultiLvlLbl val="0"/>
      </c:catAx>
      <c:valAx>
        <c:axId val="82911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9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19C-92D4-4E92-BF1F-C4141988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6A8-1F66-4A9B-A846-41902EA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534-7C68-45E5-97BA-845C8ABC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92B-A6E1-4A68-B5D1-018A59D0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5A8-3AF1-4632-97B7-9C715518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A0C-2065-4B3D-9D8B-382E32C6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2DF-1FD3-4DE1-8B56-A1583F6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6DF-5A31-41DD-94CE-C7FA189B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FCB-BC11-482B-BEFC-0D33E15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082-42EB-43FC-9CC8-11DE7A2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28C-7C95-486F-9920-0FE6194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100-D7C9-4681-A805-F2359C6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0156-A545-4FE8-ACDF-72006AD3B3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