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05901"/>
        <c:axId val="52241823"/>
      </c:barChart>
      <c:catAx>
        <c:axId val="34005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41823"/>
        <c:crosses val="autoZero"/>
        <c:auto val="1"/>
        <c:lblAlgn val="ctr"/>
        <c:lblOffset val="100"/>
        <c:noMultiLvlLbl val="0"/>
      </c:catAx>
      <c:valAx>
        <c:axId val="52241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05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AFD-BF14-4491-9511-F508070A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A24-B5B9-4E34-B567-72AF7F11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89C-8532-4B9C-83DF-9C34EBE8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A191-501B-423C-A011-D4A9466F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F11-130C-4CD8-AD60-FF8112DA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E30-28CD-4B3C-8108-4FE46B9D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4E2-8906-4BB1-AFED-9DDF9890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59D-D8DA-47F9-8919-D3A2DAC8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7DB-0D56-45DA-B20A-0007FD0C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D014-FDF3-46CC-8911-5FC08316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018-43E2-4F11-8AE6-1581334C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E10-BDD0-42E2-B281-3FD0F660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1ABFA-6F89-42E2-818C-04C961B583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